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7516-D54B-484F-9F86-D72CF5290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ystem of moral principles or standards governing conduct.  It centers around respect for the needs and rights of other people.  Ethics provides guidelines for acceptable behavior.  Ethical behavior is a goal to be achieved requiring constant eff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fessions have a “Code of Ethics” or well defined rules and standards governing the conduct of all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ppocrates, a Greek physician of th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ies, B.C., wrote one of the first medical codes of ethics, the Hippocratic Oath.  This oath is still used by some medical schools at graduation exer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lden Rule is one of the most basic and useful ethical the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ucius – “What you do not want done to yourself, do not do to oth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us – “As you would have others do to you, do to them likewis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CA0-1570-44DC-AD26-306AC754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127-96C8-42FB-92E8-9CDF98A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F57-C1A3-436D-9EDF-F21D51A8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C84-C951-43DF-BC88-3CA6A51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A679-5445-4FBA-BBFD-90872D2E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D0D3-143E-49A3-B1F8-965B8221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60D-A531-4E09-B220-3061EB9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D636-C1D6-4AB8-A25D-2C03940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91F2-67B5-461C-AACA-A8434B3C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DC00-5881-4CB7-A2C9-878D012A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6AA8-229D-40F0-8040-476DAA4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E04-5052-4A02-AAA6-4843992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417-77E0-4009-ACF1-9CCC60F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1A8-77E0-42FD-ACEC-C53D028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82A-A53D-4D6C-86D8-0D8F3D7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46A4-7FB0-4121-B48C-47A009B7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9B7-E422-4644-B249-18B30A28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750-DE3B-4367-BB4E-1463217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7CC-F7EF-4E3A-BDA8-F98868F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DB0-13E0-45A7-A7C3-2B913F40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061-A0F9-4117-8449-85AFD703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837-A4FB-4B96-A6BC-95D5581B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CAF-5C85-47C3-A660-4BF3DB9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F02-995A-4C71-A24D-DFF6CD8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E13A-4BE0-42E6-867D-B1A9D4D03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4A17-4CFA-408C-A189-BD27CC4FC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75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thical Decision Ma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46160"/>
            <a:ext cx="856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through the ethical dilemma and identify all components as objectively as pos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your op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de which option is the most ethic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the option be implemen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onsequences of your deci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terpersonal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8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Personnel are expected to treat others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 – implies honoring another person’s beliefs and opin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ity – the unwavering adherence to one’s prin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nesty – the quality of truthfulness, no matter what the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-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48520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ness – treating everyone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 – the ability to understand the feelings of others without actually experiencing their pain or di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ssion – the ability to have a gentle, caring attitude toward patients and fellow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yalty – a sense of faithfulness or commitment to a person or persons.  Employers expect loyalty from their employ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thics is the study of right and wrong, based on moral law. 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storical Development of the Medical 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5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pocrates-Hippocratic O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olden R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ucius (500 B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(30 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1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mary goal of the health care worker is to promote an optimal level of wellness, preserve life, and provide for a peaceful death when nece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lthcare work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s  the religious beliefs and cultural values of all cl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dequate and continuous care for all clients regardless of age, gender, race, or nature of the illness or inj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s the limits of practice for which he or she is competent and stays within those limi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competence and current knowledge by pursuing continuing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jurisprudent behavior at all times by avoiding unethical or illegal practi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s the dignity and rights of each client by maintaining confidentiality and a professional attitude regarding all information relating to the cli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s for clarification and assistance when unsure of any aspect of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es in professional activities and organizations to provide better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DE OF ETH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a high standard of ethical and legal behavior in his or her private as well as professional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5 Cornerston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6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hat you say you will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divulge information given to you in 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 responsibility for your mista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become involved in a 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ccepting gifts that compromise your ability to perform in the best interests of the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is it important to use ethical behavio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ical behavior establishes t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thical behavior leads to organizational dys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thical behavior creates a public out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thical behavior could create a personal moral dilem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6:55:13Z</dcterms:created>
  <dc:creator>COE User</dc:creator>
  <dc:description/>
  <dc:language>en-US</dc:language>
  <cp:lastModifiedBy>System Admin</cp:lastModifiedBy>
  <dcterms:modified xsi:type="dcterms:W3CDTF">2009-08-31T11:59:10Z</dcterms:modified>
  <cp:revision>12</cp:revision>
  <dc:subject/>
  <dc:title>CODE OF ETHICS</dc:title>
</cp:coreProperties>
</file>